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747B4-CA78-4E22-806F-2749667681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8E434-0620-4820-B2F0-BEAAC5288E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5F57FF1E-0AE6-4A8E-B0F9-96150ABB0542}"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B01DF46-2152-44BB-85FE-5401C96C90F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477723D-5C50-4BF4-B069-72C3B2070FC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3FBCEE9-7224-4AE0-95E1-8D511683B8FB}" type="datetime">
              <a:rPr b="0" lang="en-US" sz="1200" spc="-1" strike="noStrike">
                <a:solidFill>
                  <a:srgbClr val="000000"/>
                </a:solidFill>
                <a:latin typeface="Times New Roman"/>
                <a:ea typeface="Arial"/>
              </a:rPr>
              <a:t>07/30/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07C1134-C99A-4B1B-8735-138CAA4797D3}" type="datetime3">
              <a:rPr b="0" lang="en-US" sz="1200" spc="-1" strike="noStrike">
                <a:solidFill>
                  <a:srgbClr val="000000"/>
                </a:solidFill>
                <a:latin typeface="Times New Roman"/>
                <a:ea typeface="Arial"/>
              </a:rPr>
              <a:t>July 30,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2E1535B-2A43-43F8-A903-1849217E96F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D2187A-FC05-4176-BBA9-9886DF1B7D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2020A-96EA-46C1-BD77-CF7955552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589C06-F2B8-4E14-9AA0-F6155C1D29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198E72-A980-4ADB-A547-FD159B67C8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8F9D5-52D2-4751-9585-5D51D762F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3E9901-4E28-4684-B604-0E40DBB97F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E0618E-267B-4F3B-8E7A-8075F93408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0B49B8-9128-4809-9B27-C72540ACD0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B59309-98FF-4F9D-8E7B-5F5015A706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4C7848-ADAD-486D-B637-1410BCEA73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AE6A9-ECA1-4125-8E00-E372245FC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443811-04E9-4784-8318-88A46D63F8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A0D696-62E6-4DFD-8ABF-74DE3949D1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AF312A-12DD-449E-ABA8-F66D40066C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B563E3-2079-4CAA-BEA6-7EE6B8AE42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00AEED-FEDE-44AC-8BF1-F897170141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F23805-D452-4E1F-AC2F-AE92609F26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5828EC-1250-4563-ABC6-DF137CE5B2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DFCC4-87F8-43E4-8CEF-208A97365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2F08E-4C6F-4E95-8561-799D052BF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2995E-733F-48B5-97AC-920877CBD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93D2E-E770-48F4-AE93-AB56D901E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8721F-8B30-4B14-8FA4-9279C9B9B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F79EA-AE3D-431D-AC1E-936A6845C1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80ADD-F5C2-4FE6-9EAA-CF376855D1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8912CB1-DC6C-40E2-9A9A-C5265B6728A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39A137F-F311-4013-BC36-7EA3D76A3E8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D156D49-5867-4480-94A4-01F70150509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4673F-38E4-42AD-A9B1-BE8FF3C8E3DB}"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113289A-7CBE-4281-9A88-8A8589D3FAB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ED611E6-F471-4036-AFC2-1690A0F0BDF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BCB8458-04E7-460A-97C9-4AC39A18D34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